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8EA-6A89-4D3D-9C43-2956EC04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59FC-AACE-49D7-8339-F3981D5F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0045F-91D9-4C3C-8CE7-CB676A5F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7391C-D0A9-486D-9B6D-2218E60F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DA30E-6564-451B-9618-14C88D7C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08197-0E88-48BE-96EA-5C5BF467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9E5C8-56DB-4094-9953-18300E6F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46D72-E52D-47F5-83FB-487D27B1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3EAE7-6C75-4EC6-9F5D-63D7B8CE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3AC5C-D329-44A8-B08E-6EB05B06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09085-FA60-459E-B4AA-B3B5C927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6C41E-A11D-41B8-8380-76462C48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FC8-F04F-4FA2-9652-FB05A399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2D18E-D120-4ACA-BAAF-9CFACBE5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F7A99-F968-4E1C-AA06-933FF5E7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7098C-CA35-447D-9919-33131F07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84C55-098D-4F6A-BBB9-4A8383EB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B84D5-5459-4E20-836C-A13AB724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0BF0A-1825-4B5F-B587-1C1FD4C9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983E1-535B-4579-B164-D4AFBABE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69638-1ABB-4261-BB87-AF70C381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F8583-C20A-4606-8185-A19B91F6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107DA-FC6B-4DD6-9508-7B3B0915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C1A-94D8-4156-BE8B-15A70049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A2885-E9A3-45B2-A16A-64D0C39E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3A092-E8DF-4F33-96A7-0BCA932C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C4A3C-9E03-4AFB-B0F2-ED21DE32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83A90-027A-4EBF-8DF3-AC03423F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7B3C0-16BA-4A6E-9A54-F6BB9F95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00C34-0486-40D5-8EE5-FC364458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B092E-A464-4727-A438-BBD221C5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26BFE-AD89-41AF-97E1-F2E6626E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41B53-AD8D-4B83-B3CC-88634D59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8178F-1F01-4336-8CA0-C2260E1C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18BF-522C-46FB-9CBC-0D1C85BC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779C9-A2E1-4731-AAE9-F4244998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A0BF4-6EFC-4BEA-861B-83752649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5E087-B976-470B-BE85-9ED513B0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0682E-DF15-468C-B960-0DEE357A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DA937-6662-4172-B50C-EF6B741A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5FFBC-0BF0-459A-B021-61536D3B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4DEB2-5015-4EBD-BC5D-C6005E07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2EBBE-0489-4B1B-B40D-24FFE078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14826-8CFC-481D-BE1E-6C426EE2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9D7B4-D5D0-46F1-9F62-A26E6BE4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1D7B-45AD-4DC6-926E-0CE04142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5C3AC-1199-4C3B-A886-D24275F1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29F2E-5E4A-46A0-85EC-6F387D80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23175-F087-40C3-A762-F79EE33A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3A498-E48F-45BD-A2CA-A1B1AC42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2D6B8-9E81-4860-9278-E29AF3C2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0AC89-03BF-476A-BA39-1A840619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4F46E-A653-4B31-BD72-8780B7FA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05C32-55E6-460A-B6B9-A5F1D440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129CA-CF24-445C-B657-A321FD4B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90CA4-8180-4706-B7AA-8AE746E4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41C7-3DB9-4C6F-95E8-153A91F7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68C4D-5C54-4D1A-BD70-89BD4EAA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84F9D-574E-4FDE-8279-30EBBE46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9027F-BC4B-4C32-80BA-5E33D05F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11530-D949-43F4-AA4A-C864823E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84205-CFF8-4F72-982C-BF6A4FF6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AE105-120D-403F-AD1F-8238599D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B2614-EB50-4C69-B5F4-1C92C387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CBD94-FEC0-4642-BC1B-679BAC72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40E73-0565-41FD-9C94-3C366A3D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F5220-3FC4-4D63-AFA1-2CDAF2EF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C687-8019-436C-A6FE-1439131F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CEF16-5527-4254-8F32-7EF5EB48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E6CD9-8901-485F-8B97-975B7775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4C0A4-BA51-4051-80F3-63F77BC1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BB54C-0963-4146-9D62-14D2A6E3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54487-33C2-4DF3-98CC-9CB76A8A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C54D5-8B66-4D7E-995E-DBC76144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562B7-B403-4EBF-9725-3779B2B4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420EA-9DAF-46C5-AA4F-A41C7825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FB51E-110A-45B5-95BB-BDEDF8A9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8484F-BC94-418E-8BE7-C429151A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F5AC-D217-415A-BA71-F7D01191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7F5B7-F6A2-40B9-ACE9-8A6F02D7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B1FF61-7652-4A1B-B3B5-57644540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4BB3C-E36B-4B9A-B94D-BD1E3963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AA854-CE8E-4B9F-91D6-2E768B56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44115-3F9B-4F87-B294-3FB54CAD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F596F3-EB70-45E3-868D-6BF8FABA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8924C0-3E9A-4EB1-8B9A-85A96D39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9829F0-A920-44F2-B58E-D090754B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F06997-483D-4579-BD25-A3BFDCCA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BD5C0-27E7-428E-A4B9-9E254E1A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1016-E9B9-4161-8F07-FBAB52DB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4CCA8-0C38-42DB-A0E2-8A83E652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47D81-567E-401A-A1BA-C941864F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54A56-D754-4557-9050-3AB88996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DB63CC-38B4-415A-8146-237F7D9F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C145FB-0405-44F5-B4A3-FAF9E1A4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6EDA6-C989-468C-8344-D6863F16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1258AE-E756-4FD7-B053-D81EF633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8C5D54-9C6D-4D86-9714-5100FB2C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18B24-DFB5-4EC1-8B5B-5939568B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91847B-832B-4B07-8551-ED67CF67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3D10-3614-4327-9179-A55E9A43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BDDCA9-73D3-416B-9B85-03DA133F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DC000B-C0CE-4435-9B1B-EAA9C27F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4A297-F158-48FB-B30C-CE8E4BA3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C01CF8-FBE8-463C-985F-214F55A6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3B1E91-C63C-4669-9306-27FF215D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2BA2ED-4D40-481C-B53E-99B02E94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7F71FC-C6AF-4983-9A68-1168E87B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F73FF6-B628-4446-ABA5-10573BCD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50E44-580C-4427-8964-987FC165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157B66-8177-4B91-9427-5A6C9CCD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7DB-438B-4EF7-901D-286AAF1A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C5A8-188F-403E-9799-5D28B986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3AA34A-375F-46B5-92FB-941F93B7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A5A795-179B-4242-9828-31088DA3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060463-5A06-4C58-8C74-805A2AF2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6D12E1-A000-4587-AD80-9D8693E7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462E84-E436-4A5F-A313-347A99D2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FBE435-3A9B-48B6-A79D-E6374D64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4B3760-AC36-4636-89F1-713141A4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E58C3-20BF-43B7-B3D3-DAE5E2E5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3F79F3-20F3-42D1-A424-D2C2C539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415C12-3B0B-45CE-A1FE-E2E33AB8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9CC1-2FD7-4976-B593-3677006A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BD5499-9BE0-4D7A-B04F-1D91F3D0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B26401-E34F-4596-BAFD-12F4BCB9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D17CA2-FD81-44E1-9197-9B9BC81F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86FE00-B129-4848-AC70-4E3F8719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9FD6D7-08CF-45BB-84D8-F92DE036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DDD13B-28D2-4A91-A654-DD35EFDE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E24527-F259-45F6-A217-1180B081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4BCAF9-5E72-4E1F-B52A-FEB41CA4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F0558D-28A9-4103-95DA-53A2E01F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564BE8-19D1-4116-AFF2-C7ACFC33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2F8F-3CF7-4B36-B44B-5EF482B4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201A8C-6491-49F0-AA0B-F1054916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7E971C-FCEE-46BE-8CD3-9090476E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DF4DF8-9982-4580-9C5E-211E71A2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D544F-3318-4774-A7DA-B2084D95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254272-7211-4C78-BCF7-2D2A8D3D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95AF6A-74F3-4672-9E46-EB9B3E9A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3D6B2-9830-469A-9831-A2D586F1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DEC7AB-8E30-404D-95A6-BA975500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CA9BBE-0E52-48A3-8283-D8856028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29E781-2362-43DC-A0BE-F2A22CB3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675F-36CA-47F9-AE97-4399A7D0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206E63-A07C-4753-96D0-D9EDCB03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CE2137-D4B8-4B94-8CEF-1E46F94E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374BDC-2B52-41E0-A801-C18C8253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A9D7F7-C500-4F51-B8C5-FE6CBAE6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9C69A5-46B3-4981-93EE-0519588A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2A2CDA-FB02-4712-A306-E87F25DD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02DC19-F8F6-4ACB-824C-44034762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86E0F-0079-49CB-9EFD-8401ADE2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8A1076-E594-4784-8CF9-E4A2BEDE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79F635-1ADF-4F68-9B37-3E755648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A362-8489-4987-9B61-CE861338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1DA094-0251-4732-B650-B58E6AC1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F3735-B260-422A-94C8-7FA67F1C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BCEE38-CF97-481C-B36F-4E7F8F30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4CCD52-F765-4D33-B55C-C5645F79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41CE7-B761-4684-AC89-7E4A990E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EC7D79-6B68-4DBE-93B9-4FF26B61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A06E30-2DDF-4F0A-B4B5-843D67F3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B6C973-BE98-41E7-8FBD-230AB621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2B6EE4-23D1-483E-A002-72391999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4EBE37-A8B4-4F02-B909-3897C645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A7649-C055-4B5E-81C4-F4170493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7C4028-9D67-4862-B6A0-7ED5C1B3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3E0621-F156-4F5C-AB7D-8BC7CB03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9B68F6-D66A-4E46-85FD-4E20010B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2946C-D99A-44C4-92A5-2AE08D0B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1237-E234-4780-8B84-691A5121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E6A1-5EFC-4B5C-BBDF-5245CC2C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F55E4-4EA1-4E8A-964F-98D7EE28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41B-AC6F-4045-96AA-E0DB49ED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86BC4-505E-444D-9CA0-C70733BE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03E3-ACC5-496B-A737-C3995D3A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8AE21-5071-48EF-9A37-14057877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DAB00-B89D-46B3-99FA-3CC36C11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86D95-DB85-4C24-B92B-0EC795FE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4B4AD-8A60-4448-882B-453FE12A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AA60B-DE22-4C7D-8542-4AC86B4E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0EA2E-6E83-416B-9CCA-91B7DBD5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64D54-35FC-4DFD-88FB-88AA86A1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48311-911C-4386-B286-1D0818F6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056-30C0-4954-B544-5BAE0181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C4964-BC9F-455C-A50F-526EF38E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43149-7E9F-4321-AF50-F670A279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8582B-0616-4F2F-A48F-A0992B67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09881-9A01-49A9-95A5-575E8B5E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2515-AE8E-4AD4-97F9-6C13536F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D09DB-22FC-466F-9286-0A1610BF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28BC8-0B5C-4889-9806-A1E76D85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F738A-9AD1-4F01-B99B-265473D5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8F24E-411F-466D-B23C-BAA05A4A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05D8-C3E4-4CB0-A3A0-A6BED867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DEE-7891-4E36-9A54-3EB069F8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814D9-5169-49F7-A528-231162EF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E125A-7AFE-4621-99C6-0938CF4E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99375-8084-43B4-8ACC-B382CFC9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F3DBA-B886-4BA1-B60B-1846FAC0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F1ECD-BF65-40D7-B6E2-D1A71048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0C532-B871-488F-984E-E5BBAB52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305E7-0CAA-403B-A538-9D376FDE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53294-BAAE-487C-855B-748C2ECF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5E48F-47E1-4BA7-B5C8-FB9BF76A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161EC-CDB0-4516-A262-3C68FDDA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67B-E6B2-4193-9921-8543A4A8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D77E6-D5E0-41B7-985C-24689EC5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F8AC4-EE52-4A84-84D8-E79DFE76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3A057-845A-4292-9E52-2591C24F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E0895-395E-40D7-B4C1-E271DA82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A5C99-9DF2-4967-9904-AFF93BBA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DB0DF-31A5-4692-9E81-E17F36A2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7EDEA-1C6B-4314-8A42-F6A6322F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6DF01-4A94-49F3-97E9-0A3AA62F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73E0A-B85E-4DB6-9986-6A4755D1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19807-33E5-4AAF-A90A-D6A7A65B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57E-AA3A-484D-A32C-252E64E5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CB332-F8C5-4206-90EE-B05392F2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77A76-A051-4FAB-955E-A7503613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9818B-8C54-42FC-B402-C5DB6B9A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590C7-CC49-462F-B44D-4CC0D54C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04C15-A9D1-439A-BC01-6CD13389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B55F7-E4BB-482B-8180-D1D81401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A9AAC-B158-42EE-B97D-777AEC7B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7A0A0-2BB0-41E8-BAE9-17FD089F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88F25-DFD6-4621-BFD0-09A70FC0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0EF77-73F4-4E40-8549-BC4F0730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095-992F-4306-9EDA-A992755C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E960A-C294-412F-ACF6-474D1902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D8960-A678-4F84-A108-D1B9A014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A1CD2-A44A-4407-A6D4-607D6E8C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F30E7-53A5-4F57-A065-8853EE79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516EA-5650-4F7B-85A9-5CE93375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F51E1-07D1-4D72-AFDE-8BE469FC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09D01-860B-47E3-89C6-8CF43768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36F8E-8B0B-4564-9552-1B279544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BCAD6-CAF1-4C30-A7F3-46505976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DB407-F055-4A56-B791-8337E7DE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B0F6-7E92-45F6-A627-47601719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6610C-30D8-496A-B95D-EC299628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3B8FB-D4CE-4681-8E7C-2818FDFA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E5D67-F28F-46FC-B8A3-AE612E85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5AC9F-3B36-486F-847B-3C18DC36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34B76-6CDE-412E-8960-8087A6DB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6C410-1F18-4975-8BA9-F27597AB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8C1A9-4122-4AB1-8D36-9631724E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9942E-E405-4A56-A9A0-87CF4D69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99179-7B03-467D-B16F-85284980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9D2A4-1EE9-431C-9376-757113D1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FABD-78B9-49C0-B8C7-E0FF71CFD5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DD26-97C6-4969-B770-6CECEB4050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99BB-EC7A-4D3C-958F-A9BB2BC5D9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B8E5-7529-4C89-969D-40AD16AA7F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85BA-F32C-4020-805B-7D97802EA2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D4AA-51D3-40C4-BCCA-D7F0E619F6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6B0F-ED95-4099-A6DC-1BA94E5DE6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CADA-27E0-46BC-8366-9C489DF1D3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C49A-63BD-48E5-8D07-0646702C08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03D6-22A9-4E7A-80F5-07513A1F43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EE03-0167-4DD3-A6E9-D44862FB66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73A7-A587-4ED6-A2E9-11E96D8CDA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EDD8-2D2B-4FD1-A5CB-60A16F9195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DF34-B2E7-4F85-A725-E969A5E25C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DFF0-F76F-44E2-9DE6-F3E4462229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847A-26F2-4CF1-8A0B-94230A710F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7F02-B7A3-4786-9AC0-97C8078815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D9C0-3651-448C-9D3F-E37F10824A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1D2C-AC36-4FB7-8E5E-7D6D8A4AF3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E286-3F88-4F8D-8627-F55C997569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7054-7A66-4442-8974-EB8794643F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7C77-8F35-497F-AD62-C8476FD1F5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3949-F6DF-4562-B407-0151D8E9B8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B899-E30D-4517-9303-D551FA84FF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1EDC-890D-4AC0-8C78-2833C53A47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8156-30C8-4371-9737-EF4BEBBC94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2D8B-BFA3-4849-826A-487117A753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0203-5AE3-43C8-82C7-0327869744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BEBB-AC7B-4532-BD3F-03C084C4C2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757E-143A-40EA-89AF-DB0D364A44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482C-5C3D-4C94-86F8-F60CE72F6F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938D-1EBE-413D-BD3D-1DC04D3E8E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7ED1-5E7F-4EC5-8C42-DF0B609F67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960B-DB47-4AFB-9188-BC9E460605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18E4-B7B5-4AE5-9139-2536A868F3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5ED5-0F2F-4B9B-9D4E-566C229B10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7F9E-9FC9-4F97-AAF7-717B343D93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2B48-9449-4FF9-9B15-7E8B557D52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C7AA-DA6A-4219-A912-71112E19CA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339F-46E9-4C38-ADE2-00A7677108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02240" cy="8668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247840" y="3038400"/>
            <a:ext cx="46483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9633" descr=""/>
          <p:cNvPicPr/>
          <p:nvPr/>
        </p:nvPicPr>
        <p:blipFill>
          <a:blip r:embed="rId1"/>
          <a:stretch/>
        </p:blipFill>
        <p:spPr>
          <a:xfrm>
            <a:off x="652320" y="1947960"/>
            <a:ext cx="7839360" cy="29620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468360" y="2044800"/>
            <a:ext cx="489564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684360" y="2795760"/>
            <a:ext cx="4895640" cy="44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539640" y="3573360"/>
            <a:ext cx="7848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66840" y="870120"/>
            <a:ext cx="841032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690480" y="1900080"/>
            <a:ext cx="7763040" cy="305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5651640" y="3573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7451640" y="43657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638280" y="824040"/>
            <a:ext cx="7867440" cy="5209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197964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370836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536400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4859280" y="4724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6877080" y="4724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8"/>
          <a:stretch/>
        </p:blipFill>
        <p:spPr>
          <a:xfrm>
            <a:off x="1547640" y="5516640"/>
            <a:ext cx="115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328680" y="776160"/>
            <a:ext cx="8486640" cy="53056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5148360" y="4797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6659640" y="4797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6443640" y="5589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7885080" y="55450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642960" y="1609560"/>
            <a:ext cx="7858080" cy="36388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349236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507672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673272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2700360" y="47386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4572000" y="47242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6588000" y="4724280"/>
            <a:ext cx="129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966960" y="1171440"/>
            <a:ext cx="7210080" cy="45151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2195640" y="3429000"/>
            <a:ext cx="2376360" cy="9367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1979640" y="4653000"/>
            <a:ext cx="237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642960" y="649440"/>
            <a:ext cx="7858080" cy="6019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1187280" y="2044800"/>
            <a:ext cx="7345440" cy="2104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7345440" cy="9522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900000" y="5734080"/>
            <a:ext cx="7345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324000" y="525600"/>
            <a:ext cx="84960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48:1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